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0.wmf" ContentType="image/x-wmf"/>
  <Override PartName="/ppt/media/image28.png" ContentType="image/png"/>
  <Override PartName="/ppt/media/image49.wmf" ContentType="image/x-wmf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51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62.wmf" ContentType="image/x-wmf"/>
  <Override PartName="/ppt/media/image22.png" ContentType="image/png"/>
  <Override PartName="/ppt/media/image4.wmf" ContentType="image/x-wmf"/>
  <Override PartName="/ppt/media/image59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.wmf" ContentType="image/x-wmf"/>
  <Override PartName="/ppt/media/image58.png" ContentType="image/png"/>
  <Override PartName="/ppt/media/image21.png" ContentType="image/png"/>
  <Override PartName="/ppt/media/image23.png" ContentType="image/png"/>
  <Override PartName="/ppt/media/image36.png" ContentType="image/png"/>
  <Override PartName="/ppt/media/image20.png" ContentType="image/png"/>
  <Override PartName="/ppt/media/image24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0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183B-5722-40BC-B7EC-F23D77982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7175CE-5E71-45EE-8EA3-E8D986B63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7FB325-94C3-4BCA-9743-542A2CCED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33CA2E-2D8F-4C54-A761-AA9CE0BA5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469A-2CAD-470B-AE96-80CBEA1D6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F3029B-D639-47B5-82E3-C69AD04FD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A1CA01-BC84-469C-9893-5774E347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6938B3-EEFA-4BD4-A92B-A9A6F71C4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A03B8B-F0AA-42B0-BEC6-68D9984FF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BED533-14BD-479E-925F-3BB3731BB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D10DE0-A784-4F87-BA84-AF6E97B31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61FF40-7319-42C0-8B9E-572B3E7B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773DBB-577F-47FC-A16C-0B1A44057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72A5E8-57A3-49AB-9D97-356217507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2439EA-80A7-4B5F-8BEE-348EBC04E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F5CB09-6EC5-4C72-B733-800E63E0C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EB3F24-B9B0-48DD-BE3C-4EE22EA8E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75DFCE-3DE8-4624-B616-64EFFB54F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9E2A09-2441-43D2-97FF-A1FF6A392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E44134-9915-4E97-9CEB-E29EE546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94F547-9F93-43C4-B0E9-91F5D5DF1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8FBEF8-6272-4270-8A5C-AC371D025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7EAEF7-03FE-4794-8588-1090E423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9851-FBC2-4E75-9169-DE763030B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7F14C9-A154-4244-A274-4FB871BAE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A7A698-B0D9-4AF6-AA68-A22EDFE2D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568BB5-6D5B-4212-8228-4C485F29F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FCFA27-5545-4245-9C7C-28403D8E4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4C65B0-F13D-49DB-A5D3-0A13B00F6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E021F1-2EA7-4E38-85AA-66B6140F5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0DC950-E6F6-46A5-9941-39A5C755B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690AD5-6CAE-43C3-8852-7BC39985F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DADB20-FD86-44EC-8F7E-A2620FE08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79D1-EA13-4DA2-93FA-3DDAFCFAB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E8A7BF-8D61-42A0-B5B6-988E8795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3B64-4019-46C1-9000-9C367F12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B08B-0D13-4C56-BE70-14A33954F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20FE64-D413-4B1F-98B7-7B6DD2FE3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C4838C-E6E4-4F7C-B6F4-3C2DFDD3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BEB-C7F8-4274-B5C2-2623B6F9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247-9606-479C-97E4-62C9A413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169-35D4-41BC-82A2-EACE2429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EBB-1BEA-4E2F-B827-24EC7D02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1BD2E-9EFD-44EB-94F1-7A3AAE7C47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FE56C-9383-4272-AA23-727A648222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E0869-F6BE-46DC-951F-BDE150FDA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37AFE-0CD1-481A-A4B1-F2EE626941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31900-59A2-49C1-878D-D737D7FF0D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C05BF-75B8-4030-ACAE-6B99561729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3554D-7E9D-4C3B-8297-CF7579454D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E73-2297-4213-9A5C-DB07B5C8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33AE5-2E44-4C5A-AD9E-8994AB44C4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1113F-AEA1-40B1-8A5B-7124B37D11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83FED-7E9B-4C0D-8B21-D9C9D69130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42020-471C-4E83-BCC0-D5F32109E5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585A6-DB88-4349-9AD3-0736261C5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524-654D-48C9-B690-9DADEE42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1DF-27F0-4CAA-9796-83BA809A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A62-DF0A-4746-AF27-0BB17B4D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222-B6EA-4253-9511-5B3A9492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32C-6F3B-4E19-822D-F097D8E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EF1-591B-4E58-A2E1-5A95BCD7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6B6-6DAB-4D2C-B53C-83C33809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5FDB-333E-4540-A663-0C18368B95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2D76-56D0-479F-92D9-6FDAF95484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597A-7382-41F6-B3C7-88D3A5819A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ur parame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length,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twist 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offset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joint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trix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function of only a single variab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 turns out that three of the above four quantities are constant for a given link, while the fourth parameter is the joint vari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7046-3FE4-42C3-A8BF-86A688D9E1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oint, a joint variable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joints are represented by the z-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revolute, the z-axis is in the direction of rotation as followed by the right hand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prismatic, the z-axis for the joint is along the direction of the liner m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A2D-C80F-48E1-93E9-E75E7344F3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4984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bine all transformations, from the first joint (base) to the next until we get to the last joint, to get the robot’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tal transformation matr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From     , the position and orientation of the tool frame are calcul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2EE8-B15D-4E9A-9244-0686CB92A0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8"/>
          <p:cNvGraphicFramePr/>
          <p:nvPr/>
        </p:nvGraphicFramePr>
        <p:xfrm>
          <a:off x="1676520" y="3657600"/>
          <a:ext cx="3076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3076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76520" y="4518000"/>
          <a:ext cx="38088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18000"/>
                    <a:ext cx="380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06D4-FAE4-450C-BC47-AE58C259EA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Documents and Settings\Administrator\Desktop\untitled.bmp"/>
          <p:cNvPicPr/>
          <p:nvPr/>
        </p:nvPicPr>
        <p:blipFill>
          <a:blip r:embed="rId1"/>
          <a:stretch/>
        </p:blipFill>
        <p:spPr>
          <a:xfrm>
            <a:off x="457200" y="1514520"/>
            <a:ext cx="8448840" cy="534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8B79-C972-4883-93B1-B525D3375D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7105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D3EE-BD16-4A70-9773-00EA82458C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Administrator\Desktop\untitled.bmp"/>
          <p:cNvPicPr/>
          <p:nvPr/>
        </p:nvPicPr>
        <p:blipFill>
          <a:blip r:embed="rId2"/>
          <a:stretch/>
        </p:blipFill>
        <p:spPr>
          <a:xfrm>
            <a:off x="304920" y="1523880"/>
            <a:ext cx="8629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734E-6E41-4308-A246-5BBD89C257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866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9"/>
          <p:cNvGraphicFramePr/>
          <p:nvPr/>
        </p:nvGraphicFramePr>
        <p:xfrm>
          <a:off x="2133720" y="2895480"/>
          <a:ext cx="41446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89548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813456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5"/>
          <a:stretch/>
        </p:blipFill>
        <p:spPr>
          <a:xfrm>
            <a:off x="457200" y="1295280"/>
            <a:ext cx="83059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5395-F6DD-4B1E-A960-88F7A7CF3A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9"/>
          <p:cNvSpPr/>
          <p:nvPr/>
        </p:nvSpPr>
        <p:spPr>
          <a:xfrm>
            <a:off x="838080" y="1925640"/>
            <a:ext cx="4419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fram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Z ‘s are normal to th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9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49892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0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1612-C706-43D2-8F9D-1096A5A60E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829120" cy="180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935A-7BF9-4A5C-96E5-032819A640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6381720" cy="442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and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and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161-C9FE-49B2-864B-E45BCB7787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678C-3D19-4873-B737-6F0A886BEA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3143160" cy="396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57150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568E-3119-4937-9B46-0202BCB2B7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486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3FDB-A905-4D73-9BA8-BFDA4B9610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71880" cy="4905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4387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562B-7C2F-4AE9-A9CF-26F703D93F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371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C17D-83CE-4494-99D6-6EBC00CF6F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00240" y="2728800"/>
            <a:ext cx="49435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19CF-DC5A-47DC-B8F8-5EBD3D8954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71600" y="2263680"/>
            <a:ext cx="5562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769-4651-48E6-8C07-BDD93610DA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105440" cy="3284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6097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3448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528D-B525-4C62-8C61-34E4170F36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581200" y="1849320"/>
            <a:ext cx="3981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CE28-6E89-42A5-BA36-56057F020E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853-B9C3-41C2-9A27-7743EDE512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10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homogeneous transformatio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ng the tool frame to the fixed bas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8B2A-778B-49F6-A443-6B759F131D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676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D337-0F65-4676-ABA3-B08B129CC8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0208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5"/>
          <p:cNvGraphicFramePr/>
          <p:nvPr/>
        </p:nvGraphicFramePr>
        <p:xfrm>
          <a:off x="819000" y="3886200"/>
          <a:ext cx="6289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3886200"/>
                    <a:ext cx="628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524560" y="3962520"/>
          <a:ext cx="495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4560" y="3962520"/>
                    <a:ext cx="495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by example 2, and        given by example  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87E1-AF3A-4540-BCD0-463268331D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458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41ED-E949-4826-B5B8-116C06001A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063880" y="1676520"/>
            <a:ext cx="443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4A32-71D5-4880-A406-300C59E581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kinema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position of the end-effector: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orientation {Roll, Pitch, Yaw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32000" y="3886200"/>
          <a:ext cx="53737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886200"/>
                    <a:ext cx="5373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l Pitch Y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801320" y="2048040"/>
            <a:ext cx="4035600" cy="3517200"/>
            <a:chOff x="4801320" y="2048040"/>
            <a:chExt cx="4035600" cy="3517200"/>
          </a:xfrm>
        </p:grpSpPr>
        <p:grpSp>
          <p:nvGrpSpPr>
            <p:cNvPr id="239" name="Group 4"/>
            <p:cNvGrpSpPr/>
            <p:nvPr/>
          </p:nvGrpSpPr>
          <p:grpSpPr>
            <a:xfrm>
              <a:off x="5332320" y="2527200"/>
              <a:ext cx="3200400" cy="2743200"/>
              <a:chOff x="5332320" y="2527200"/>
              <a:chExt cx="3200400" cy="2743200"/>
            </a:xfrm>
          </p:grpSpPr>
          <p:sp>
            <p:nvSpPr>
              <p:cNvPr id="240" name="Line 5"/>
              <p:cNvSpPr/>
              <p:nvPr/>
            </p:nvSpPr>
            <p:spPr>
              <a:xfrm flipV="1">
                <a:off x="6703920" y="252720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6"/>
              <p:cNvSpPr/>
              <p:nvPr/>
            </p:nvSpPr>
            <p:spPr>
              <a:xfrm flipH="1">
                <a:off x="5332320" y="435600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6703920" y="4356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6399000" y="306072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 rot="16336800">
                <a:off x="5724360" y="466164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 rot="5753400">
                <a:off x="7395840" y="418140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 Box 11"/>
            <p:cNvSpPr/>
            <p:nvPr/>
          </p:nvSpPr>
          <p:spPr>
            <a:xfrm>
              <a:off x="480132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8436600" y="41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6442200" y="2048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Object 1024"/>
            <p:cNvGraphicFramePr/>
            <p:nvPr/>
          </p:nvGraphicFramePr>
          <p:xfrm>
            <a:off x="5402160" y="4324680"/>
            <a:ext cx="380880" cy="41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2160" y="4324680"/>
                      <a:ext cx="380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1" name="Object 1025"/>
                <p:cNvSpPr txBox="1"/>
                <p:nvPr/>
              </p:nvSpPr>
              <p:spPr>
                <a:xfrm>
                  <a:off x="7916760" y="454212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Object 1026"/>
                <p:cNvSpPr txBox="1"/>
                <p:nvPr/>
              </p:nvSpPr>
              <p:spPr>
                <a:xfrm>
                  <a:off x="6870600" y="255744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3" name="Object 15"/>
          <p:cNvGraphicFramePr/>
          <p:nvPr/>
        </p:nvGraphicFramePr>
        <p:xfrm>
          <a:off x="457200" y="2514600"/>
          <a:ext cx="5257800" cy="14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52578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1A298E-9C4C-45D7-B445-F959D26C32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228600" y="4105440"/>
          <a:ext cx="4495680" cy="23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105440"/>
                    <a:ext cx="44956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6C8C-02C9-4569-AA96-149B95F6B7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calcul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the matrix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 w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f the matr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Object 2"/>
          <p:cNvGraphicFramePr/>
          <p:nvPr/>
        </p:nvGraphicFramePr>
        <p:xfrm>
          <a:off x="4238640" y="1600200"/>
          <a:ext cx="19335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1600200"/>
                    <a:ext cx="1933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"/>
          <p:cNvGraphicFramePr/>
          <p:nvPr/>
        </p:nvGraphicFramePr>
        <p:xfrm>
          <a:off x="3048120" y="3429000"/>
          <a:ext cx="4762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429000"/>
                    <a:ext cx="4762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6"/>
          <p:cNvGraphicFramePr/>
          <p:nvPr/>
        </p:nvGraphicFramePr>
        <p:xfrm>
          <a:off x="533520" y="4343400"/>
          <a:ext cx="5867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343400"/>
                    <a:ext cx="586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5"/>
          <p:cNvGraphicFramePr/>
          <p:nvPr/>
        </p:nvGraphicFramePr>
        <p:xfrm>
          <a:off x="851040" y="5664240"/>
          <a:ext cx="13586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5664240"/>
                    <a:ext cx="1358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6"/>
          <p:cNvGraphicFramePr/>
          <p:nvPr/>
        </p:nvGraphicFramePr>
        <p:xfrm>
          <a:off x="2514600" y="5638680"/>
          <a:ext cx="14079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638680"/>
                    <a:ext cx="140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7"/>
          <p:cNvGraphicFramePr/>
          <p:nvPr/>
        </p:nvGraphicFramePr>
        <p:xfrm>
          <a:off x="4184640" y="5638680"/>
          <a:ext cx="145404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4640" y="5638680"/>
                    <a:ext cx="1454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2"/>
          <p:cNvGraphicFramePr/>
          <p:nvPr/>
        </p:nvGraphicFramePr>
        <p:xfrm>
          <a:off x="1130400" y="6242040"/>
          <a:ext cx="119520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0400" y="6242040"/>
                    <a:ext cx="1195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3"/>
          <p:cNvGraphicFramePr/>
          <p:nvPr/>
        </p:nvGraphicFramePr>
        <p:xfrm>
          <a:off x="2590920" y="6095880"/>
          <a:ext cx="1295280" cy="542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6095880"/>
                    <a:ext cx="1295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4"/>
          <p:cNvGraphicFramePr/>
          <p:nvPr/>
        </p:nvGraphicFramePr>
        <p:xfrm>
          <a:off x="4114800" y="6019920"/>
          <a:ext cx="154944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6019920"/>
                    <a:ext cx="15494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5"/>
          <p:cNvGraphicFramePr/>
          <p:nvPr/>
        </p:nvGraphicFramePr>
        <p:xfrm>
          <a:off x="5962680" y="2577960"/>
          <a:ext cx="1428840" cy="115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2680" y="2577960"/>
                    <a:ext cx="142884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:R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9033-F0D6-4929-A6EE-0E3EB3F751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447920" y="2286000"/>
          <a:ext cx="4952880" cy="2819520"/>
        </p:xfrm>
        <a:graphic>
          <a:graphicData uri="http://schemas.openxmlformats.org/drawingml/2006/table">
            <a:tbl>
              <a:tblPr/>
              <a:tblGrid>
                <a:gridCol w="1031760"/>
                <a:gridCol w="939960"/>
                <a:gridCol w="1131840"/>
                <a:gridCol w="812520"/>
                <a:gridCol w="1036800"/>
              </a:tblGrid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Spong book: page 1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2, 3.3, 3.4, 3.6 , 3.7, 3.8, 3.9, 3.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lass on next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63A9-78B5-44D4-BA2F-938A8566CB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AE22-DF72-4249-B936-DF0A549066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009880" cy="1380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7" descr=""/>
          <p:cNvPicPr/>
          <p:nvPr/>
        </p:nvPicPr>
        <p:blipFill>
          <a:blip r:embed="rId2"/>
          <a:stretch/>
        </p:blipFill>
        <p:spPr>
          <a:xfrm>
            <a:off x="457200" y="1062000"/>
            <a:ext cx="7467480" cy="25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16"/>
          <p:cNvGraphicFramePr/>
          <p:nvPr/>
        </p:nvGraphicFramePr>
        <p:xfrm>
          <a:off x="1855800" y="4038480"/>
          <a:ext cx="294336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5800" y="4038480"/>
                    <a:ext cx="29433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457200" y="40384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                                    are  Roll, Pitch, and Y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present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kinema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927000" y="2347920"/>
          <a:ext cx="198756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347920"/>
                    <a:ext cx="198756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5"/>
          <p:cNvGraphicFramePr/>
          <p:nvPr/>
        </p:nvGraphicFramePr>
        <p:xfrm>
          <a:off x="4927680" y="2903400"/>
          <a:ext cx="30970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7680" y="2903400"/>
                    <a:ext cx="30970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54F1-390A-4E67-859E-9179D5F307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800960" y="160020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simple way of modeling robot links and joints that can be used for any kind of robot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echnique has became the standard way of representing robots and modeling their 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AAAE-ED28-4BF6-ABC2-DE91053DD1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s: we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+1 links. Link 0 is the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oints are numbered from 1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i connects link i − 1 to link 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{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ttached to joi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+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{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attached to the robot base (inertial frame) “joint 1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A97C-F8A4-42CB-8D40-1A3B517501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a reference frame to each joi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-axis and z-axis). The D-H representation does not use the y-axis at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omogeneous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represented as a product of four basic transfor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82C0-1DFF-423B-B903-4D296F143F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6A53-2082-43A2-94FC-A07F17DB9A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resenting the four movements is found by: four m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1066680" y="3962520"/>
          <a:ext cx="54864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5486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9"/>
          <p:cNvGraphicFramePr/>
          <p:nvPr/>
        </p:nvGraphicFramePr>
        <p:xfrm>
          <a:off x="349200" y="2438280"/>
          <a:ext cx="503244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2438280"/>
                    <a:ext cx="503244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52CD-286D-4690-AC16-4B061E0366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1447920" y="4800600"/>
          <a:ext cx="4144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80060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685800" y="1447920"/>
                <a:ext cx="39304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648320" y="144792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3880" y="1829880"/>
            <a:ext cx="609624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762120" y="3048120"/>
                <a:ext cx="704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k and joint parameter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leng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: the offset distance between the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d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es along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offset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he distance from the origin of frame i−1 to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EEA5-F66A-481D-A122-D947950692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6459-8C2F-4A92-BE3B-FABFA4963F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0880" y="1414440"/>
            <a:ext cx="3581640" cy="29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233496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4179960"/>
            <a:ext cx="81532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k tw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:the angle from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 to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 about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sense for α is determined from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right-hand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int angl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ngle between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es about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</cp:lastModifiedBy>
  <dcterms:modified xsi:type="dcterms:W3CDTF">2009-09-15T01:45:51Z</dcterms:modified>
  <cp:revision>174</cp:revision>
  <dc:subject/>
  <dc:title>Robot Kinematics II </dc:title>
</cp:coreProperties>
</file>